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3F5A-8F2A-4107-94C7-168080D4FD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AFF1-10D8-4218-A12B-C40BE92B68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E8A8-2C9D-4595-8EE3-EAE7085A75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2343-4E54-4825-9796-3030B63CB8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EAAB-8D75-44EA-BBB7-DC858C471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614-8D72-4847-A2AA-4C86454A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627-48C9-4EBA-B00B-A6EA99E7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B42-0456-4029-9BB2-AEC9BE87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B0A-EC21-4BB4-A197-87AB09D9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0823-25C3-43CC-8AAD-588CA661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CE38-FBD9-4B1B-96FB-809A2CFE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F7A6-B9CD-4D2F-B91C-93C3F6F9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8648-A8FB-4385-A362-113CAE20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A244-4230-4054-984B-E4771FEC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592C-3777-4AD4-96E7-6F081E0C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21D6-D4D7-41E5-9C46-F2741CB4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3F8-0DD3-446D-89A7-60857427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B26D-843E-493D-99C6-856AE048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D0AD-FEDA-4013-AE09-E569710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7BB1-F260-4B9B-A0F7-B68FBB52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A121-EE38-4377-97C4-81F875C4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5602-F445-487C-9FCB-7FC7193C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3C72-A132-4A79-AE6F-D354F20B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4F9F1-8C2F-4506-8E25-15521421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10A1-D652-4705-B7C7-06EFBD4C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FF8A-0004-4A12-AFE4-2EEA7CB6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53BD-10AB-41B1-B7DA-0F95BF53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7C0-52E4-4915-A72A-BD5E0274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4B96-7618-496C-848F-60247F7A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69D6-C07C-489E-A709-790EB000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0F35-D926-474B-8C3D-4A13660A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8F64-1BDE-4B7A-A996-EA51D34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208B-3783-4663-A230-A2B0853D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6BD1-05C9-4485-AE28-D2E12F0A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26AB-3B0D-473F-99AC-1604448D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50BA-19BD-4A2D-BEEE-A9A546E9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B672E-D3D4-4B9B-9ADA-0C22ED36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4BF02-6C15-4DB4-AAEE-6CAAD007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623-2733-4BB1-9524-E8040FCF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3AC69-B164-4E54-86E6-ADF7F203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BC647-61C7-4D04-8B13-23947818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FD4DB-B9F2-4CBF-B7AB-611DAB63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3498D-018E-4E4E-9E68-15FB1035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53D0C-3471-4ED3-A8C1-B2279654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39BED-2938-4898-9552-1D297E7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D707-C4D6-410A-BCA0-A3AE74D8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C947E-BF4C-4C7B-A52E-1C6F39F2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BCF9B-C2F0-4AE3-823D-C2B17489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1C1-23F1-49AB-98F5-2E05614F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43B-78EC-461A-AD75-A57746D8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5FB-9814-47FA-AA4F-39A2AE2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787-93FF-48FF-B002-D30EDAA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C81-5A63-4306-A1C6-1583973F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B017-D028-4A51-818D-28CA3D028B61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BCB1-74C7-4A2D-A1C6-944A176919C3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D43B-FE60-44D9-BF6D-2414FD57570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D70B-B186-489C-A518-4458B2AB8FC5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rebuchet MS"/>
              </a:rPr>
              <a:t>Правовые основы деятельности кредитных потребительских кооперативов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стр0007.jpg"/>
          <p:cNvPicPr/>
          <p:nvPr/>
        </p:nvPicPr>
        <p:blipFill>
          <a:blip r:embed="rId1"/>
          <a:srcRect l="2343" t="5207" r="2343" b="5207"/>
          <a:stretch/>
        </p:blipFill>
        <p:spPr>
          <a:xfrm>
            <a:off x="324000" y="549360"/>
            <a:ext cx="87152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рава членов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14280" y="12855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участвовать в управлении КПК и быть избранными в его орга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вать в фонд финансовой взаимопомощи КПК на основании договора личные сбереж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займы на потребительские и иные нужды на условиях, предусмотренных уставом КП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компенсацию за использование своих личных сбереже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ить при прекращении членства в КПК денежную стоимость своего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аво наследования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Фонд финансовой взаимопомощи кредитн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356840" y="1928880"/>
            <a:ext cx="7497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является источником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формируется за счет части собственных средств  КПК, личных сбережений членов КПК  и временно привлекаем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е менее половины денежных средств из ФФВП  должны быть в займа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2214720" cy="1884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250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орядок предоставления займов в кредитном потребительском кооперативе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85560" y="2285640"/>
            <a:ext cx="7497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ча денежных средств своим членам осуществляется на основе Договора зай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займы выдаются как с обеспечением, так и без обеспеч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айщики получают заемные средства из ФФВП, как правило, на платной основ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решение о предоставлении займа принимает уполномоченный уставом орган КПК на основании поступивших заявок на зай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Защита финансовых интересов членов кредитного потребительского кооператива</a:t>
            </a:r>
            <a:br>
              <a:rPr sz="24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2276280"/>
            <a:ext cx="75232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должен формировать резервный фонд для обеспечения непредвиденных расходов и страховой фонд для покрытия возможных убытков от деятельности кредитного союз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размеры страхового и резервного фондов утверждаются в соответствии с законодательств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вступить в саморегулируемую организаци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передавать информацию в бюро кредитных истор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Органы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Содержимое 9" descr=""/>
          <p:cNvPicPr/>
          <p:nvPr/>
        </p:nvPicPr>
        <p:blipFill>
          <a:blip r:embed="rId1"/>
          <a:stretch/>
        </p:blipFill>
        <p:spPr>
          <a:xfrm>
            <a:off x="328680" y="1627200"/>
            <a:ext cx="84186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fcbef"/>
                </a:solidFill>
                <a:latin typeface="Tahoma"/>
                <a:ea typeface="Tahoma"/>
              </a:rPr>
              <a:t>Что дает Профсоюзу организация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56840" y="1928520"/>
            <a:ext cx="74977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овая для профсоюза, востребованная членами профсоюза, ниша для оказания финансовой помощ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хороший способ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PR</a:t>
            </a: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 для профсоюза, так как услуги кредитного потребительского кооператива распространяются только на членов профсою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более рациональное использование профсоюзн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fcbef"/>
                </a:solidFill>
                <a:latin typeface="Trebuchet MS"/>
              </a:rPr>
              <a:t>Спасибо за внимание 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4320" y="1125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174261"/>
                </a:solidFill>
                <a:latin typeface="Tahoma"/>
                <a:ea typeface="Tahoma"/>
              </a:rPr>
              <a:t>Что такое кредитный потребительский кооператив ?</a:t>
            </a:r>
            <a:br>
              <a:rPr sz="2800"/>
            </a:br>
            <a:endParaRPr b="0" lang="en-US" sz="2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844280"/>
            <a:ext cx="7718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Кредитный потребительский кооператив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добровольное объединение физических и (или) юридических лиц на основе членства и по территориальному, профессиональному и (или) иному принципу в целях удовлетворения финансовых потребностей членов кредитного кооператива (пайщик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1"/>
          <p:cNvSpPr/>
          <p:nvPr/>
        </p:nvSpPr>
        <p:spPr>
          <a:xfrm>
            <a:off x="4494240" y="2416320"/>
            <a:ext cx="3753000" cy="888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341960" y="2263680"/>
            <a:ext cx="3752640" cy="8892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 Box 21"/>
          <p:cNvGrpSpPr/>
          <p:nvPr/>
        </p:nvGrpSpPr>
        <p:grpSpPr>
          <a:xfrm>
            <a:off x="274680" y="1231920"/>
            <a:ext cx="8704080" cy="736560"/>
            <a:chOff x="274680" y="1231920"/>
            <a:chExt cx="8704080" cy="736560"/>
          </a:xfrm>
        </p:grpSpPr>
        <p:pic>
          <p:nvPicPr>
            <p:cNvPr id="225" name="Text Box 21" descr=""/>
            <p:cNvPicPr/>
            <p:nvPr/>
          </p:nvPicPr>
          <p:blipFill>
            <a:blip r:embed="rId1"/>
            <a:stretch/>
          </p:blipFill>
          <p:spPr>
            <a:xfrm>
              <a:off x="274680" y="1231920"/>
              <a:ext cx="87040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95280" y="1341360"/>
              <a:ext cx="84614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Гражданский Кодекс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Text Box 20"/>
          <p:cNvGrpSpPr/>
          <p:nvPr/>
        </p:nvGrpSpPr>
        <p:grpSpPr>
          <a:xfrm>
            <a:off x="-6480" y="1974960"/>
            <a:ext cx="3700440" cy="1280880"/>
            <a:chOff x="-6480" y="1974960"/>
            <a:chExt cx="3700440" cy="1280880"/>
          </a:xfrm>
        </p:grpSpPr>
        <p:pic>
          <p:nvPicPr>
            <p:cNvPr id="228" name="Text Box 20" descr=""/>
            <p:cNvPicPr/>
            <p:nvPr/>
          </p:nvPicPr>
          <p:blipFill>
            <a:blip r:embed="rId2"/>
            <a:stretch/>
          </p:blipFill>
          <p:spPr>
            <a:xfrm>
              <a:off x="-6480" y="1974960"/>
              <a:ext cx="370044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28520" y="2111400"/>
              <a:ext cx="3378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й закон №190-ФЗ от 18 июля 2009 г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«О кредитной коопераци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2500200" y="3071880"/>
            <a:ext cx="0" cy="4633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2916360" y="4032360"/>
            <a:ext cx="0" cy="7318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6300720" y="3303720"/>
            <a:ext cx="0" cy="249696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Text Box 21"/>
          <p:cNvGrpSpPr/>
          <p:nvPr/>
        </p:nvGrpSpPr>
        <p:grpSpPr>
          <a:xfrm>
            <a:off x="3870360" y="1962000"/>
            <a:ext cx="4219560" cy="1182960"/>
            <a:chOff x="3870360" y="1962000"/>
            <a:chExt cx="4219560" cy="1182960"/>
          </a:xfrm>
        </p:grpSpPr>
        <p:pic>
          <p:nvPicPr>
            <p:cNvPr id="234" name="Text Box 21" descr=""/>
            <p:cNvPicPr/>
            <p:nvPr/>
          </p:nvPicPr>
          <p:blipFill>
            <a:blip r:embed="rId3"/>
            <a:stretch/>
          </p:blipFill>
          <p:spPr>
            <a:xfrm>
              <a:off x="3870360" y="1962000"/>
              <a:ext cx="42195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019400" y="2111400"/>
              <a:ext cx="39229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е законы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З о ПОД/ФТ,  ФЗ «О рекламе», НК РФ, ФЗ «О потребительском займе (кредите)</a:t>
              </a: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ругие федеральные зак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Text Box 21"/>
          <p:cNvGrpSpPr/>
          <p:nvPr/>
        </p:nvGrpSpPr>
        <p:grpSpPr>
          <a:xfrm>
            <a:off x="2535120" y="5694480"/>
            <a:ext cx="5529240" cy="839520"/>
            <a:chOff x="2535120" y="5694480"/>
            <a:chExt cx="5529240" cy="839520"/>
          </a:xfrm>
        </p:grpSpPr>
        <p:pic>
          <p:nvPicPr>
            <p:cNvPr id="237" name="Text Box 21" descr=""/>
            <p:cNvPicPr/>
            <p:nvPr/>
          </p:nvPicPr>
          <p:blipFill>
            <a:blip r:embed="rId4"/>
            <a:stretch/>
          </p:blipFill>
          <p:spPr>
            <a:xfrm>
              <a:off x="2535120" y="5694480"/>
              <a:ext cx="55292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660760" y="5800680"/>
              <a:ext cx="5281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еятельность КП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9"/>
          <p:cNvSpPr/>
          <p:nvPr/>
        </p:nvSpPr>
        <p:spPr>
          <a:xfrm>
            <a:off x="3240000" y="5405400"/>
            <a:ext cx="0" cy="3952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98176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200" y="256680"/>
            <a:ext cx="6896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174261"/>
                </a:solidFill>
                <a:latin typeface="Trebuchet MS"/>
              </a:rPr>
              <a:t>Правовое регулирование деятельности КПК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6443640" y="3860640"/>
            <a:ext cx="2500200" cy="7225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дзаконные акты Минфин РФ, ЦБ РФ,  Ф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7380360" y="4583160"/>
            <a:ext cx="0" cy="1217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7380360" y="3305160"/>
            <a:ext cx="0" cy="5554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4235400" y="4032360"/>
            <a:ext cx="1909800" cy="104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авила и стандарты СР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191200" y="3303720"/>
            <a:ext cx="0" cy="72864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5191200" y="5073480"/>
            <a:ext cx="0" cy="72720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7"/>
          <p:cNvCxnSpPr>
            <a:stCxn id="245" idx="1"/>
          </p:cNvCxnSpPr>
          <p:nvPr/>
        </p:nvCxnSpPr>
        <p:spPr>
          <a:xfrm flipH="1">
            <a:off x="3239280" y="4552560"/>
            <a:ext cx="996120" cy="548280"/>
          </a:xfrm>
          <a:prstGeom prst="straightConnector1">
            <a:avLst/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249" name="Text Box 11"/>
          <p:cNvSpPr/>
          <p:nvPr/>
        </p:nvSpPr>
        <p:spPr>
          <a:xfrm>
            <a:off x="1077840" y="4795920"/>
            <a:ext cx="2844720" cy="6094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нутренние нормативные документы К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763560" y="3530520"/>
            <a:ext cx="2844720" cy="501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Устав КПК (ст.8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1764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23440" y="-360"/>
            <a:ext cx="8620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от 23.07.13 № 251-ФЗ  «О передаче ЦБ РФ полномочий по регулированию, контролю и надзору в сфере финансовых рынков»</a:t>
            </a:r>
            <a:br>
              <a:rPr sz="1600"/>
            </a:br>
            <a:endParaRPr b="0" lang="en-US" sz="1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Полилиния 3"/>
          <p:cNvSpPr/>
          <p:nvPr/>
        </p:nvSpPr>
        <p:spPr>
          <a:xfrm>
            <a:off x="2952720" y="1214280"/>
            <a:ext cx="6118200" cy="144000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17880" tIns="194040" bIns="19404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проект основных направлений развития финансового рынка и обеспечивает выполнение основных направлений развития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и проводит политику развития и обеспечения стабильности функционирования российского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Полномочие по принятию нормативных правовых актов по вопросам своего ведения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8"/>
          <p:cNvSpPr/>
          <p:nvPr/>
        </p:nvSpPr>
        <p:spPr>
          <a:xfrm>
            <a:off x="477720" y="1217520"/>
            <a:ext cx="2354400" cy="143676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определения единой политики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9"/>
          <p:cNvSpPr/>
          <p:nvPr/>
        </p:nvSpPr>
        <p:spPr>
          <a:xfrm>
            <a:off x="2952720" y="2749680"/>
            <a:ext cx="6118200" cy="11476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отраслевые стандарты бухгалтерского учета для некредитных финансовых организаций с 1.01.2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план счетов бухгалтерского учета для некредитных финансовых организаций и порядок его применения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10"/>
          <p:cNvSpPr/>
          <p:nvPr/>
        </p:nvSpPr>
        <p:spPr>
          <a:xfrm>
            <a:off x="474840" y="2749680"/>
            <a:ext cx="2338200" cy="11476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бухгалтерского учет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лилиния 11"/>
          <p:cNvSpPr/>
          <p:nvPr/>
        </p:nvSpPr>
        <p:spPr>
          <a:xfrm>
            <a:off x="2952720" y="3987720"/>
            <a:ext cx="6118200" cy="11494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71360" indent="-17136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Trebuchet MS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оводит анализ и прогнозирование состояния российской экономики, публикует соответствующие материалы и статистически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лилиния 12"/>
          <p:cNvSpPr/>
          <p:nvPr/>
        </p:nvSpPr>
        <p:spPr>
          <a:xfrm>
            <a:off x="474840" y="3987720"/>
            <a:ext cx="2338200" cy="11494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мониторинга отдельных показателей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лилиния 13"/>
          <p:cNvSpPr/>
          <p:nvPr/>
        </p:nvSpPr>
        <p:spPr>
          <a:xfrm>
            <a:off x="2952720" y="5211720"/>
            <a:ext cx="6118200" cy="143532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27600" tIns="203760" bIns="20376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существляет регулирование, контроль и надзор за деятельностью некредитных финансовых орган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станавливает нормативы их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оводит проверки их деятельности, направляет им обязательные для исполнения предписания, а также применяет к указанным организациям иные предусмотренные законодательством м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Полилиния 14"/>
          <p:cNvGrpSpPr/>
          <p:nvPr/>
        </p:nvGrpSpPr>
        <p:grpSpPr>
          <a:xfrm>
            <a:off x="407880" y="5181480"/>
            <a:ext cx="2463840" cy="1567080"/>
            <a:chOff x="407880" y="5181480"/>
            <a:chExt cx="2463840" cy="1567080"/>
          </a:xfrm>
        </p:grpSpPr>
        <p:pic>
          <p:nvPicPr>
            <p:cNvPr id="261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407880" y="5181480"/>
              <a:ext cx="2463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5211720"/>
              <a:ext cx="23288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600" rIns="138600" tIns="104400" bIns="1044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Полномочия в области регулирования деятельности отдельных участников финансового р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Прямая соединительная линия 16"/>
          <p:cNvSpPr/>
          <p:nvPr/>
        </p:nvSpPr>
        <p:spPr>
          <a:xfrm>
            <a:off x="2906640" y="1116000"/>
            <a:ext cx="62373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Скругленный прямоугольник 50"/>
          <p:cNvGrpSpPr/>
          <p:nvPr/>
        </p:nvGrpSpPr>
        <p:grpSpPr>
          <a:xfrm>
            <a:off x="5553000" y="871560"/>
            <a:ext cx="3110040" cy="755640"/>
            <a:chOff x="5553000" y="871560"/>
            <a:chExt cx="3110040" cy="755640"/>
          </a:xfrm>
        </p:grpSpPr>
        <p:pic>
          <p:nvPicPr>
            <p:cNvPr id="265" name="Скругленный прямоугольник 50" descr=""/>
            <p:cNvPicPr/>
            <p:nvPr/>
          </p:nvPicPr>
          <p:blipFill>
            <a:blip r:embed="rId1"/>
            <a:stretch/>
          </p:blipFill>
          <p:spPr>
            <a:xfrm>
              <a:off x="5553000" y="871560"/>
              <a:ext cx="31100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00600" y="1004760"/>
              <a:ext cx="2813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Министерство юсти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кругленный прямоугольник 51"/>
          <p:cNvGrpSpPr/>
          <p:nvPr/>
        </p:nvGrpSpPr>
        <p:grpSpPr>
          <a:xfrm>
            <a:off x="-92160" y="414360"/>
            <a:ext cx="2298960" cy="658800"/>
            <a:chOff x="-92160" y="414360"/>
            <a:chExt cx="2298960" cy="658800"/>
          </a:xfrm>
        </p:grpSpPr>
        <p:pic>
          <p:nvPicPr>
            <p:cNvPr id="268" name="Скругленный прямоугольник 51" descr=""/>
            <p:cNvPicPr/>
            <p:nvPr/>
          </p:nvPicPr>
          <p:blipFill>
            <a:blip r:embed="rId2"/>
            <a:stretch/>
          </p:blipFill>
          <p:spPr>
            <a:xfrm>
              <a:off x="-92160" y="414360"/>
              <a:ext cx="22989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9320" y="547560"/>
              <a:ext cx="20145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СУ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Скругленный прямоугольник 52"/>
          <p:cNvGrpSpPr/>
          <p:nvPr/>
        </p:nvGrpSpPr>
        <p:grpSpPr>
          <a:xfrm>
            <a:off x="7034040" y="5310360"/>
            <a:ext cx="1805040" cy="1071360"/>
            <a:chOff x="7034040" y="5310360"/>
            <a:chExt cx="1805040" cy="1071360"/>
          </a:xfrm>
        </p:grpSpPr>
        <p:pic>
          <p:nvPicPr>
            <p:cNvPr id="271" name="Скругленный прямоугольник 52" descr=""/>
            <p:cNvPicPr/>
            <p:nvPr/>
          </p:nvPicPr>
          <p:blipFill>
            <a:blip r:embed="rId3"/>
            <a:stretch/>
          </p:blipFill>
          <p:spPr>
            <a:xfrm>
              <a:off x="7034040" y="5310360"/>
              <a:ext cx="180504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107120" y="5381640"/>
              <a:ext cx="133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l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Скругленный прямоугольник 57"/>
          <p:cNvGrpSpPr/>
          <p:nvPr/>
        </p:nvGrpSpPr>
        <p:grpSpPr>
          <a:xfrm>
            <a:off x="5522760" y="4552920"/>
            <a:ext cx="1805040" cy="1073160"/>
            <a:chOff x="5522760" y="4552920"/>
            <a:chExt cx="1805040" cy="1073160"/>
          </a:xfrm>
        </p:grpSpPr>
        <p:pic>
          <p:nvPicPr>
            <p:cNvPr id="274" name="Скругленный прямоугольник 57" descr=""/>
            <p:cNvPicPr/>
            <p:nvPr/>
          </p:nvPicPr>
          <p:blipFill>
            <a:blip r:embed="rId4"/>
            <a:stretch/>
          </p:blipFill>
          <p:spPr>
            <a:xfrm>
              <a:off x="5522760" y="4552920"/>
              <a:ext cx="180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595840" y="4627440"/>
              <a:ext cx="13320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g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6" name="Прямая со стрелкой 74"/>
          <p:cNvCxnSpPr/>
          <p:nvPr/>
        </p:nvCxnSpPr>
        <p:spPr>
          <a:xfrm flipV="1">
            <a:off x="6261120" y="3555360"/>
            <a:ext cx="216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7" name="Скругленный прямоугольник 81"/>
          <p:cNvSpPr/>
          <p:nvPr/>
        </p:nvSpPr>
        <p:spPr>
          <a:xfrm>
            <a:off x="5786280" y="2292480"/>
            <a:ext cx="2751120" cy="1323720"/>
          </a:xfrm>
          <a:prstGeom prst="roundRect">
            <a:avLst>
              <a:gd name="adj" fmla="val 16667"/>
            </a:avLst>
          </a:prstGeom>
          <a:noFill/>
          <a:ln cap="rnd" w="19080">
            <a:solidFill>
              <a:srgbClr val="00b0f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77"/>
          <p:cNvCxnSpPr/>
          <p:nvPr/>
        </p:nvCxnSpPr>
        <p:spPr>
          <a:xfrm flipV="1">
            <a:off x="7772400" y="3558960"/>
            <a:ext cx="216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9" name="Скругленный прямоугольник 86"/>
          <p:cNvSpPr/>
          <p:nvPr/>
        </p:nvSpPr>
        <p:spPr>
          <a:xfrm>
            <a:off x="6102360" y="378612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Обязательное членство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включение в реестр СР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Скругленный прямоугольник 88"/>
          <p:cNvGrpSpPr/>
          <p:nvPr/>
        </p:nvGrpSpPr>
        <p:grpSpPr>
          <a:xfrm>
            <a:off x="3822840" y="6388200"/>
            <a:ext cx="4956120" cy="592200"/>
            <a:chOff x="3822840" y="6388200"/>
            <a:chExt cx="4956120" cy="592200"/>
          </a:xfrm>
        </p:grpSpPr>
        <p:pic>
          <p:nvPicPr>
            <p:cNvPr id="281" name="Скругленный прямоугольник 88" descr=""/>
            <p:cNvPicPr/>
            <p:nvPr/>
          </p:nvPicPr>
          <p:blipFill>
            <a:blip r:embed="rId5"/>
            <a:stretch/>
          </p:blipFill>
          <p:spPr>
            <a:xfrm>
              <a:off x="3822840" y="6388200"/>
              <a:ext cx="4956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960720" y="6515280"/>
              <a:ext cx="4676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Федеральная налоговая служ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Прямая со стрелкой 93"/>
          <p:cNvCxnSpPr/>
          <p:nvPr/>
        </p:nvCxnSpPr>
        <p:spPr>
          <a:xfrm flipH="1">
            <a:off x="4720680" y="4500360"/>
            <a:ext cx="1080" cy="199908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4" name="Прямая со стрелкой 94"/>
          <p:cNvCxnSpPr/>
          <p:nvPr/>
        </p:nvCxnSpPr>
        <p:spPr>
          <a:xfrm flipH="1">
            <a:off x="6260760" y="5262480"/>
            <a:ext cx="2160" cy="12391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grpSp>
        <p:nvGrpSpPr>
          <p:cNvPr id="285" name="Скругленный прямоугольник 97"/>
          <p:cNvGrpSpPr/>
          <p:nvPr/>
        </p:nvGrpSpPr>
        <p:grpSpPr>
          <a:xfrm>
            <a:off x="3906720" y="3797280"/>
            <a:ext cx="1798920" cy="1073160"/>
            <a:chOff x="3906720" y="3797280"/>
            <a:chExt cx="1798920" cy="1073160"/>
          </a:xfrm>
        </p:grpSpPr>
        <p:pic>
          <p:nvPicPr>
            <p:cNvPr id="286" name="Скругленный прямоугольник 97" descr=""/>
            <p:cNvPicPr/>
            <p:nvPr/>
          </p:nvPicPr>
          <p:blipFill>
            <a:blip r:embed="rId6"/>
            <a:stretch/>
          </p:blipFill>
          <p:spPr>
            <a:xfrm>
              <a:off x="3906720" y="3797280"/>
              <a:ext cx="17989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79800" y="3873600"/>
              <a:ext cx="13305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второго уров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Прямая со стрелкой 102"/>
          <p:cNvCxnSpPr/>
          <p:nvPr/>
        </p:nvCxnSpPr>
        <p:spPr>
          <a:xfrm>
            <a:off x="7772400" y="6014520"/>
            <a:ext cx="7200" cy="4993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9" name="Скругленный прямоугольник 104"/>
          <p:cNvSpPr/>
          <p:nvPr/>
        </p:nvSpPr>
        <p:spPr>
          <a:xfrm>
            <a:off x="4422600" y="6154560"/>
            <a:ext cx="382140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 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117"/>
          <p:cNvCxnSpPr/>
          <p:nvPr/>
        </p:nvCxnSpPr>
        <p:spPr>
          <a:xfrm>
            <a:off x="2012760" y="4175280"/>
            <a:ext cx="193572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Прямая со стрелкой 118"/>
          <p:cNvCxnSpPr/>
          <p:nvPr/>
        </p:nvCxnSpPr>
        <p:spPr>
          <a:xfrm>
            <a:off x="2018880" y="4928760"/>
            <a:ext cx="3545640" cy="252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Прямая со стрелкой 123"/>
          <p:cNvCxnSpPr/>
          <p:nvPr/>
        </p:nvCxnSpPr>
        <p:spPr>
          <a:xfrm>
            <a:off x="2088720" y="3424320"/>
            <a:ext cx="364428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3" name="Скругленный прямоугольник 129"/>
          <p:cNvSpPr/>
          <p:nvPr/>
        </p:nvSpPr>
        <p:spPr>
          <a:xfrm>
            <a:off x="2513160" y="3289320"/>
            <a:ext cx="2933640" cy="31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исполнением СРО и их членами положений ФЗ и иных норм. а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30"/>
          <p:cNvSpPr/>
          <p:nvPr/>
        </p:nvSpPr>
        <p:spPr>
          <a:xfrm>
            <a:off x="2513160" y="3957480"/>
            <a:ext cx="1226880" cy="1173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131"/>
          <p:cNvCxnSpPr/>
          <p:nvPr/>
        </p:nvCxnSpPr>
        <p:spPr>
          <a:xfrm>
            <a:off x="1906560" y="5683320"/>
            <a:ext cx="5169600" cy="2160"/>
          </a:xfrm>
          <a:prstGeom prst="straightConnector1">
            <a:avLst/>
          </a:prstGeom>
          <a:ln cap="rnd" w="19080">
            <a:solidFill>
              <a:srgbClr val="ff0000"/>
            </a:solidFill>
            <a:custDash>
              <a:ds d="499000" sp="201000"/>
            </a:custDash>
            <a:miter/>
            <a:tailEnd len="med" type="arrow" w="med"/>
          </a:ln>
        </p:spPr>
      </p:cxnSp>
      <p:sp>
        <p:nvSpPr>
          <p:cNvPr id="296" name="Скругленный прямоугольник 135"/>
          <p:cNvSpPr/>
          <p:nvPr/>
        </p:nvSpPr>
        <p:spPr>
          <a:xfrm>
            <a:off x="2513160" y="5403960"/>
            <a:ext cx="17859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, в случае отсутствия членства в СРО К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Прямая со стрелкой 140"/>
          <p:cNvCxnSpPr/>
          <p:nvPr/>
        </p:nvCxnSpPr>
        <p:spPr>
          <a:xfrm flipV="1">
            <a:off x="6555240" y="3555360"/>
            <a:ext cx="252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cxnSp>
        <p:nvCxnSpPr>
          <p:cNvPr id="298" name="Прямая со стрелкой 141"/>
          <p:cNvCxnSpPr/>
          <p:nvPr/>
        </p:nvCxnSpPr>
        <p:spPr>
          <a:xfrm flipV="1">
            <a:off x="7988760" y="3558960"/>
            <a:ext cx="252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sp>
        <p:nvSpPr>
          <p:cNvPr id="299" name="Скругленный прямоугольник 147"/>
          <p:cNvSpPr/>
          <p:nvPr/>
        </p:nvSpPr>
        <p:spPr>
          <a:xfrm>
            <a:off x="5564160" y="4094280"/>
            <a:ext cx="291960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Мониторинг, контроль, обеспечение имущественной ответственно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hape 153"/>
          <p:cNvCxnSpPr>
            <a:endCxn id="301" idx="0"/>
          </p:cNvCxnSpPr>
          <p:nvPr/>
        </p:nvCxnSpPr>
        <p:spPr>
          <a:xfrm>
            <a:off x="2082600" y="732960"/>
            <a:ext cx="1999080" cy="97092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02" name="Скругленный прямоугольник 150"/>
          <p:cNvSpPr/>
          <p:nvPr/>
        </p:nvSpPr>
        <p:spPr>
          <a:xfrm>
            <a:off x="2784600" y="1125360"/>
            <a:ext cx="2593800" cy="36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 ликвидации кредитных потребительских кооператив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Прямая со стрелкой 157"/>
          <p:cNvCxnSpPr/>
          <p:nvPr/>
        </p:nvCxnSpPr>
        <p:spPr>
          <a:xfrm>
            <a:off x="2088720" y="2976120"/>
            <a:ext cx="3644280" cy="2520"/>
          </a:xfrm>
          <a:prstGeom prst="straightConnector1">
            <a:avLst/>
          </a:prstGeom>
          <a:ln cap="rnd" w="316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Скругленный прямоугольник 158"/>
          <p:cNvSpPr/>
          <p:nvPr/>
        </p:nvSpPr>
        <p:spPr>
          <a:xfrm>
            <a:off x="2840040" y="285264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Скругленный прямоугольник 43"/>
          <p:cNvGrpSpPr/>
          <p:nvPr/>
        </p:nvGrpSpPr>
        <p:grpSpPr>
          <a:xfrm>
            <a:off x="1054080" y="2279520"/>
            <a:ext cx="1139760" cy="4303800"/>
            <a:chOff x="1054080" y="2279520"/>
            <a:chExt cx="1139760" cy="4303800"/>
          </a:xfrm>
        </p:grpSpPr>
        <p:pic>
          <p:nvPicPr>
            <p:cNvPr id="306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1054080" y="2279520"/>
              <a:ext cx="1139760" cy="43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16200000">
              <a:off x="-375120" y="4024800"/>
              <a:ext cx="39733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Банк Ро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Скругленный прямоугольник 2"/>
          <p:cNvGrpSpPr/>
          <p:nvPr/>
        </p:nvGrpSpPr>
        <p:grpSpPr>
          <a:xfrm>
            <a:off x="5608800" y="2127240"/>
            <a:ext cx="2998800" cy="1566720"/>
            <a:chOff x="5608800" y="2127240"/>
            <a:chExt cx="2998800" cy="156672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8"/>
            <a:stretch/>
          </p:blipFill>
          <p:spPr>
            <a:xfrm>
              <a:off x="5608800" y="2127240"/>
              <a:ext cx="29988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797440" y="2301840"/>
              <a:ext cx="2621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СРО 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</a:rPr>
                <a:t>Не менее 100 КПК или 5 КПК с численностью членов более 100 тыс. пайщ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Shape 153"/>
          <p:cNvCxnSpPr/>
          <p:nvPr/>
        </p:nvCxnSpPr>
        <p:spPr>
          <a:xfrm rot="10800000">
            <a:off x="1054800" y="940680"/>
            <a:ext cx="97560" cy="183744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12" name="Скругленный прямоугольник 138"/>
          <p:cNvSpPr/>
          <p:nvPr/>
        </p:nvSpPr>
        <p:spPr>
          <a:xfrm>
            <a:off x="36360" y="1125360"/>
            <a:ext cx="2394000" cy="54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 ликвидации КПК, по  основаниям, предусмотренным положениями №190-Ф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49"/>
          <p:cNvSpPr/>
          <p:nvPr/>
        </p:nvSpPr>
        <p:spPr>
          <a:xfrm>
            <a:off x="36360" y="1773360"/>
            <a:ext cx="2394000" cy="46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б исключении СРО КПК из государственного реестра СРО К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59"/>
          <p:cNvSpPr/>
          <p:nvPr/>
        </p:nvSpPr>
        <p:spPr>
          <a:xfrm>
            <a:off x="2784600" y="1703520"/>
            <a:ext cx="2593800" cy="51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б исключении СРО КПК из государственного реестра СРО КП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1258920" y="249228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СРО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1"/>
          <p:cNvSpPr/>
          <p:nvPr/>
        </p:nvSpPr>
        <p:spPr>
          <a:xfrm>
            <a:off x="1258920" y="595152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Соединительная линия уступом 107"/>
          <p:cNvCxnSpPr>
            <a:endCxn id="315" idx="2"/>
          </p:cNvCxnSpPr>
          <p:nvPr/>
        </p:nvCxnSpPr>
        <p:spPr>
          <a:xfrm rot="10800000">
            <a:off x="1581840" y="6357240"/>
            <a:ext cx="2363040" cy="303840"/>
          </a:xfrm>
          <a:prstGeom prst="bentConnector2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17" name="Скругленный прямоугольник 110"/>
          <p:cNvSpPr/>
          <p:nvPr/>
        </p:nvSpPr>
        <p:spPr>
          <a:xfrm>
            <a:off x="2266920" y="6496200"/>
            <a:ext cx="1446120" cy="3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Предоставление сведений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из ЕГРЮ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73"/>
          <p:cNvCxnSpPr>
            <a:endCxn id="314" idx="3"/>
          </p:cNvCxnSpPr>
          <p:nvPr/>
        </p:nvCxnSpPr>
        <p:spPr>
          <a:xfrm flipH="1">
            <a:off x="1906200" y="2695320"/>
            <a:ext cx="3826800" cy="1080"/>
          </a:xfrm>
          <a:prstGeom prst="straightConnector1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19" name="Прямая со стрелкой 62"/>
          <p:cNvCxnSpPr/>
          <p:nvPr/>
        </p:nvCxnSpPr>
        <p:spPr>
          <a:xfrm flipH="1" flipV="1">
            <a:off x="6443280" y="145368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20" name="Прямая со стрелкой 82"/>
          <p:cNvCxnSpPr/>
          <p:nvPr/>
        </p:nvCxnSpPr>
        <p:spPr>
          <a:xfrm flipH="1">
            <a:off x="7778520" y="145404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21" name="Скругленный прямоугольник 83"/>
          <p:cNvSpPr/>
          <p:nvPr/>
        </p:nvSpPr>
        <p:spPr>
          <a:xfrm>
            <a:off x="7161120" y="1557360"/>
            <a:ext cx="1263600" cy="42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64"/>
          <p:cNvSpPr/>
          <p:nvPr/>
        </p:nvSpPr>
        <p:spPr>
          <a:xfrm>
            <a:off x="5813280" y="1671480"/>
            <a:ext cx="1262160" cy="42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регистрация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84"/>
          <p:cNvSpPr/>
          <p:nvPr/>
        </p:nvSpPr>
        <p:spPr>
          <a:xfrm>
            <a:off x="2840040" y="2600280"/>
            <a:ext cx="2224080" cy="1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ключение в реест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76200" y="34920"/>
            <a:ext cx="822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rebuchet MS"/>
              </a:rPr>
              <a:t>Система регулирования и контроля  кредитной ко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2760" y="2203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rebuchet MS"/>
              </a:rPr>
              <a:t>Система стандартов и норм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6" name="Скругленный прямоугольник 2"/>
          <p:cNvSpPr/>
          <p:nvPr/>
        </p:nvSpPr>
        <p:spPr>
          <a:xfrm>
            <a:off x="777960" y="1281240"/>
            <a:ext cx="2619360" cy="1047600"/>
          </a:xfrm>
          <a:prstGeom prst="roundRect">
            <a:avLst>
              <a:gd name="adj" fmla="val 14606"/>
            </a:avLst>
          </a:prstGeom>
          <a:gradFill rotWithShape="0">
            <a:gsLst>
              <a:gs pos="0">
                <a:srgbClr val="d3eef9"/>
              </a:gs>
              <a:gs pos="100000">
                <a:srgbClr val="7cd1f1"/>
              </a:gs>
            </a:gsLst>
            <a:lin ang="5400000"/>
          </a:gradFill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№190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«О кредитной кооп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"/>
          <p:cNvSpPr/>
          <p:nvPr/>
        </p:nvSpPr>
        <p:spPr>
          <a:xfrm>
            <a:off x="3611520" y="2449440"/>
            <a:ext cx="2619360" cy="73512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Бан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4"/>
          <p:cNvSpPr/>
          <p:nvPr/>
        </p:nvSpPr>
        <p:spPr>
          <a:xfrm>
            <a:off x="6292800" y="3548160"/>
            <a:ext cx="2619360" cy="73476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hape 33"/>
          <p:cNvCxnSpPr>
            <a:stCxn id="326" idx="3"/>
            <a:endCxn id="327" idx="0"/>
          </p:cNvCxnSpPr>
          <p:nvPr/>
        </p:nvCxnSpPr>
        <p:spPr>
          <a:xfrm>
            <a:off x="3396960" y="1805040"/>
            <a:ext cx="1524600" cy="64512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0" name="Shape 35"/>
          <p:cNvCxnSpPr>
            <a:stCxn id="327" idx="3"/>
          </p:cNvCxnSpPr>
          <p:nvPr/>
        </p:nvCxnSpPr>
        <p:spPr>
          <a:xfrm>
            <a:off x="6230520" y="2817360"/>
            <a:ext cx="694440" cy="73116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1" name="Shape 41"/>
          <p:cNvCxnSpPr>
            <a:stCxn id="326" idx="3"/>
          </p:cNvCxnSpPr>
          <p:nvPr/>
        </p:nvCxnSpPr>
        <p:spPr>
          <a:xfrm>
            <a:off x="3396960" y="1805040"/>
            <a:ext cx="4974120" cy="174384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2" name="Скругленный прямоугольник 8"/>
          <p:cNvGrpSpPr/>
          <p:nvPr/>
        </p:nvGrpSpPr>
        <p:grpSpPr>
          <a:xfrm>
            <a:off x="712800" y="5742000"/>
            <a:ext cx="8265960" cy="714240"/>
            <a:chOff x="712800" y="5742000"/>
            <a:chExt cx="8265960" cy="714240"/>
          </a:xfrm>
        </p:grpSpPr>
        <p:pic>
          <p:nvPicPr>
            <p:cNvPr id="333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712800" y="5742000"/>
              <a:ext cx="82659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03160" y="5799240"/>
              <a:ext cx="80838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Кредитные потребительские кооперати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Прямая со стрелкой 9"/>
          <p:cNvCxnSpPr>
            <a:stCxn id="326" idx="2"/>
          </p:cNvCxnSpPr>
          <p:nvPr/>
        </p:nvCxnSpPr>
        <p:spPr>
          <a:xfrm flipH="1">
            <a:off x="2085120" y="2328840"/>
            <a:ext cx="2520" cy="343296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6" name="Прямая со стрелкой 10"/>
          <p:cNvCxnSpPr>
            <a:stCxn id="327" idx="2"/>
          </p:cNvCxnSpPr>
          <p:nvPr/>
        </p:nvCxnSpPr>
        <p:spPr>
          <a:xfrm>
            <a:off x="4921200" y="3184200"/>
            <a:ext cx="7200" cy="260100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7" name="Прямая со стрелкой 11"/>
          <p:cNvCxnSpPr>
            <a:stCxn id="328" idx="2"/>
          </p:cNvCxnSpPr>
          <p:nvPr/>
        </p:nvCxnSpPr>
        <p:spPr>
          <a:xfrm>
            <a:off x="7602120" y="4282920"/>
            <a:ext cx="27720" cy="147888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8" name="Скругленный прямоугольник 12"/>
          <p:cNvGrpSpPr/>
          <p:nvPr/>
        </p:nvGrpSpPr>
        <p:grpSpPr>
          <a:xfrm>
            <a:off x="3986280" y="4608360"/>
            <a:ext cx="1884240" cy="871560"/>
            <a:chOff x="3986280" y="4608360"/>
            <a:chExt cx="1884240" cy="871560"/>
          </a:xfrm>
        </p:grpSpPr>
        <p:pic>
          <p:nvPicPr>
            <p:cNvPr id="339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3986280" y="4608360"/>
              <a:ext cx="188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083120" y="4670280"/>
              <a:ext cx="1690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Скругленный прямоугольник 13"/>
          <p:cNvSpPr/>
          <p:nvPr/>
        </p:nvSpPr>
        <p:spPr>
          <a:xfrm>
            <a:off x="6931080" y="4638600"/>
            <a:ext cx="1387440" cy="735120"/>
          </a:xfrm>
          <a:prstGeom prst="roundRect">
            <a:avLst>
              <a:gd name="adj" fmla="val 14606"/>
            </a:avLst>
          </a:prstGeom>
          <a:solidFill>
            <a:srgbClr val="ffffcc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равила и станд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4"/>
          <p:cNvSpPr/>
          <p:nvPr/>
        </p:nvSpPr>
        <p:spPr>
          <a:xfrm>
            <a:off x="405144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ополнительные финансовые 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5"/>
          <p:cNvSpPr/>
          <p:nvPr/>
        </p:nvSpPr>
        <p:spPr>
          <a:xfrm>
            <a:off x="1393920" y="2451240"/>
            <a:ext cx="1387440" cy="734760"/>
          </a:xfrm>
          <a:prstGeom prst="roundRect">
            <a:avLst>
              <a:gd name="adj" fmla="val 14606"/>
            </a:avLst>
          </a:prstGeom>
          <a:solidFill>
            <a:srgbClr val="eaf6d9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Скругленный прямоугольник 16"/>
          <p:cNvGrpSpPr/>
          <p:nvPr/>
        </p:nvGrpSpPr>
        <p:grpSpPr>
          <a:xfrm>
            <a:off x="6492960" y="2236680"/>
            <a:ext cx="1517400" cy="866880"/>
            <a:chOff x="6492960" y="2236680"/>
            <a:chExt cx="1517400" cy="866880"/>
          </a:xfrm>
        </p:grpSpPr>
        <p:pic>
          <p:nvPicPr>
            <p:cNvPr id="345" name="Скругленный прямоугольник 16" descr=""/>
            <p:cNvPicPr/>
            <p:nvPr/>
          </p:nvPicPr>
          <p:blipFill>
            <a:blip r:embed="rId3"/>
            <a:stretch/>
          </p:blipFill>
          <p:spPr>
            <a:xfrm>
              <a:off x="6492960" y="2236680"/>
              <a:ext cx="1517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589800" y="2297160"/>
              <a:ext cx="1323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Скругленный прямоугольник 17"/>
          <p:cNvSpPr/>
          <p:nvPr/>
        </p:nvSpPr>
        <p:spPr>
          <a:xfrm>
            <a:off x="121140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200" y="404640"/>
            <a:ext cx="74977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 создаются кредитные кооперативы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49" name="Содержимое 6" descr=""/>
          <p:cNvPicPr/>
          <p:nvPr/>
        </p:nvPicPr>
        <p:blipFill>
          <a:blip r:embed="rId1"/>
          <a:stretch/>
        </p:blipFill>
        <p:spPr>
          <a:xfrm>
            <a:off x="676440" y="1481040"/>
            <a:ext cx="6583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9264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ahoma"/>
                <a:ea typeface="Tahoma"/>
              </a:rPr>
              <a:t>Основные принципы деятельности кредитных потребительских кооперативов</a:t>
            </a:r>
            <a:br>
              <a:rPr sz="29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51" name="Содержимое 6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01072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539280"/>
            <a:ext cx="78627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ие финансовые операции может осуществлять кредитный кооператив</a:t>
            </a:r>
            <a:br>
              <a:rPr sz="27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85560" y="2214720"/>
            <a:ext cx="7497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оказывать финансовую помощь пайщикам КПК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в виде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инимать личные сбережения членов-пайщиков с дальнейшим начислением компенс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258840" y="371628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236520" y="1643040"/>
            <a:ext cx="14493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24:33Z</dcterms:created>
  <dc:creator>Дмитрий</dc:creator>
  <dc:description/>
  <dc:language>en-US</dc:language>
  <cp:lastModifiedBy>Сергей Хмельков</cp:lastModifiedBy>
  <dcterms:modified xsi:type="dcterms:W3CDTF">2015-09-28T19:47:34Z</dcterms:modified>
  <cp:revision>87</cp:revision>
  <dc:subject/>
  <dc:title>Кредитные союзы</dc:title>
</cp:coreProperties>
</file>